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DBB-140C-4983-A092-6DBAF727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8DD-04CF-4CF4-AF77-716BD59C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8CC-4395-492E-ADBB-93002FDF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7162-3E1D-41C3-A0DE-BD9E5C29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88C0-2316-4DBE-9516-7782BE9E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453-B580-49E9-B17F-7D6CD532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0B3-E0DE-4864-9385-158CE153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FA62-731F-4B88-961C-BABAC2FE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53F5-78F3-4B5F-9D7B-10B39661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39E-70AD-4B8C-A43B-F961FC0C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AC5-425B-49D7-8CAD-9DAF06BF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CE51-2DD1-4564-ADD7-7EE41CC2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slideLayout" Target="../slideLayouts/slideLayout13.xml"/><Relationship Id="rId28" Type="http://schemas.openxmlformats.org/officeDocument/2006/relationships/slideLayout" Target="../slideLayouts/slideLayout14.xml"/><Relationship Id="rId29" Type="http://schemas.openxmlformats.org/officeDocument/2006/relationships/slideLayout" Target="../slideLayouts/slideLayout15.xml"/><Relationship Id="rId30" Type="http://schemas.openxmlformats.org/officeDocument/2006/relationships/slideLayout" Target="../slideLayouts/slideLayout16.xml"/><Relationship Id="rId31" Type="http://schemas.openxmlformats.org/officeDocument/2006/relationships/slideLayout" Target="../slideLayouts/slideLayout17.xml"/><Relationship Id="rId32" Type="http://schemas.openxmlformats.org/officeDocument/2006/relationships/slideLayout" Target="../slideLayouts/slideLayout18.xml"/><Relationship Id="rId33" Type="http://schemas.openxmlformats.org/officeDocument/2006/relationships/slideLayout" Target="../slideLayouts/slideLayout19.xml"/><Relationship Id="rId34" Type="http://schemas.openxmlformats.org/officeDocument/2006/relationships/slideLayout" Target="../slideLayouts/slideLayout20.xml"/><Relationship Id="rId35" Type="http://schemas.openxmlformats.org/officeDocument/2006/relationships/slideLayout" Target="../slideLayouts/slideLayout21.xml"/><Relationship Id="rId36" Type="http://schemas.openxmlformats.org/officeDocument/2006/relationships/slideLayout" Target="../slideLayouts/slideLayout22.xml"/><Relationship Id="rId37" Type="http://schemas.openxmlformats.org/officeDocument/2006/relationships/slideLayout" Target="../slideLayouts/slideLayout23.xml"/><Relationship Id="rId3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3152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arge3.png"/>
          <p:cNvPicPr/>
          <p:nvPr/>
        </p:nvPicPr>
        <p:blipFill>
          <a:blip r:embed="rId2"/>
          <a:stretch/>
        </p:blipFill>
        <p:spPr>
          <a:xfrm>
            <a:off x="4681440" y="895320"/>
            <a:ext cx="4469040" cy="2513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AA2E-4677-4575-A6D5-C7E161B4A4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BA28-8E58-4425-9872-1083E0672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Large1.png"/>
          <p:cNvPicPr/>
          <p:nvPr/>
        </p:nvPicPr>
        <p:blipFill>
          <a:blip r:embed="rId3"/>
          <a:stretch/>
        </p:blipFill>
        <p:spPr>
          <a:xfrm>
            <a:off x="-6480" y="895320"/>
            <a:ext cx="9156960" cy="20192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Large2.png"/>
          <p:cNvPicPr/>
          <p:nvPr/>
        </p:nvPicPr>
        <p:blipFill>
          <a:blip r:embed="rId4"/>
          <a:stretch/>
        </p:blipFill>
        <p:spPr>
          <a:xfrm>
            <a:off x="-6480" y="1328760"/>
            <a:ext cx="9156960" cy="13780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Tendril1.png"/>
          <p:cNvPicPr/>
          <p:nvPr/>
        </p:nvPicPr>
        <p:blipFill>
          <a:blip r:embed="rId5"/>
          <a:stretch/>
        </p:blipFill>
        <p:spPr>
          <a:xfrm>
            <a:off x="4376880" y="523800"/>
            <a:ext cx="4352760" cy="18115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Tendril2.png"/>
          <p:cNvPicPr/>
          <p:nvPr/>
        </p:nvPicPr>
        <p:blipFill>
          <a:blip r:embed="rId6"/>
          <a:stretch/>
        </p:blipFill>
        <p:spPr>
          <a:xfrm>
            <a:off x="1792440" y="1384200"/>
            <a:ext cx="3133440" cy="13096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Tendril3.png"/>
          <p:cNvPicPr/>
          <p:nvPr/>
        </p:nvPicPr>
        <p:blipFill>
          <a:blip r:embed="rId7"/>
          <a:stretch/>
        </p:blipFill>
        <p:spPr>
          <a:xfrm>
            <a:off x="3597120" y="2054160"/>
            <a:ext cx="2187720" cy="11271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2" descr="Tendril4.png"/>
          <p:cNvPicPr/>
          <p:nvPr/>
        </p:nvPicPr>
        <p:blipFill>
          <a:blip r:embed="rId8"/>
          <a:stretch/>
        </p:blipFill>
        <p:spPr>
          <a:xfrm>
            <a:off x="2292480" y="2610000"/>
            <a:ext cx="1017360" cy="1266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3" descr="Tendril5.png"/>
          <p:cNvPicPr/>
          <p:nvPr/>
        </p:nvPicPr>
        <p:blipFill>
          <a:blip r:embed="rId9"/>
          <a:stretch/>
        </p:blipFill>
        <p:spPr>
          <a:xfrm>
            <a:off x="1170000" y="2425680"/>
            <a:ext cx="1255680" cy="5428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4" descr="Tendril6.png"/>
          <p:cNvPicPr/>
          <p:nvPr/>
        </p:nvPicPr>
        <p:blipFill>
          <a:blip r:embed="rId10"/>
          <a:stretch/>
        </p:blipFill>
        <p:spPr>
          <a:xfrm>
            <a:off x="3170160" y="2487600"/>
            <a:ext cx="438120" cy="41436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5" descr="Tendril8.png"/>
          <p:cNvPicPr/>
          <p:nvPr/>
        </p:nvPicPr>
        <p:blipFill>
          <a:blip r:embed="rId11"/>
          <a:stretch/>
        </p:blipFill>
        <p:spPr>
          <a:xfrm>
            <a:off x="4973760" y="1328760"/>
            <a:ext cx="677880" cy="38412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8" descr="Tendril9.png"/>
          <p:cNvPicPr/>
          <p:nvPr/>
        </p:nvPicPr>
        <p:blipFill>
          <a:blip r:embed="rId12"/>
          <a:stretch/>
        </p:blipFill>
        <p:spPr>
          <a:xfrm>
            <a:off x="5638680" y="1384200"/>
            <a:ext cx="1609920" cy="83520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0" descr="Tendril10.png"/>
          <p:cNvPicPr/>
          <p:nvPr/>
        </p:nvPicPr>
        <p:blipFill>
          <a:blip r:embed="rId13"/>
          <a:stretch/>
        </p:blipFill>
        <p:spPr>
          <a:xfrm>
            <a:off x="6016680" y="469800"/>
            <a:ext cx="944640" cy="117648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1" descr="Tendril14.png"/>
          <p:cNvPicPr/>
          <p:nvPr/>
        </p:nvPicPr>
        <p:blipFill>
          <a:blip r:embed="rId14"/>
          <a:stretch/>
        </p:blipFill>
        <p:spPr>
          <a:xfrm>
            <a:off x="2895480" y="2023920"/>
            <a:ext cx="712800" cy="30492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5" descr="Tendril2.png"/>
          <p:cNvPicPr/>
          <p:nvPr/>
        </p:nvPicPr>
        <p:blipFill>
          <a:blip r:embed="rId15"/>
          <a:stretch/>
        </p:blipFill>
        <p:spPr>
          <a:xfrm>
            <a:off x="5565600" y="1536840"/>
            <a:ext cx="3383280" cy="135252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3152"/>
            </a:gs>
            <a:gs pos="100000">
              <a:srgbClr val="17375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Large3.png"/>
          <p:cNvPicPr/>
          <p:nvPr/>
        </p:nvPicPr>
        <p:blipFill>
          <a:blip r:embed="rId2"/>
          <a:stretch/>
        </p:blipFill>
        <p:spPr>
          <a:xfrm>
            <a:off x="4681440" y="895320"/>
            <a:ext cx="4469040" cy="251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Large1.png"/>
          <p:cNvPicPr/>
          <p:nvPr/>
        </p:nvPicPr>
        <p:blipFill>
          <a:blip r:embed="rId3"/>
          <a:stretch/>
        </p:blipFill>
        <p:spPr>
          <a:xfrm>
            <a:off x="-6480" y="895320"/>
            <a:ext cx="9156960" cy="2019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Large2.png"/>
          <p:cNvPicPr/>
          <p:nvPr/>
        </p:nvPicPr>
        <p:blipFill>
          <a:blip r:embed="rId4"/>
          <a:stretch/>
        </p:blipFill>
        <p:spPr>
          <a:xfrm>
            <a:off x="-6480" y="1328760"/>
            <a:ext cx="9156960" cy="137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Tendril1.png"/>
          <p:cNvPicPr/>
          <p:nvPr/>
        </p:nvPicPr>
        <p:blipFill>
          <a:blip r:embed="rId5"/>
          <a:stretch/>
        </p:blipFill>
        <p:spPr>
          <a:xfrm>
            <a:off x="4376880" y="523800"/>
            <a:ext cx="4352760" cy="181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Tendril2.png"/>
          <p:cNvPicPr/>
          <p:nvPr/>
        </p:nvPicPr>
        <p:blipFill>
          <a:blip r:embed="rId6"/>
          <a:stretch/>
        </p:blipFill>
        <p:spPr>
          <a:xfrm>
            <a:off x="1792440" y="1384200"/>
            <a:ext cx="313344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Tendril3.png"/>
          <p:cNvPicPr/>
          <p:nvPr/>
        </p:nvPicPr>
        <p:blipFill>
          <a:blip r:embed="rId7"/>
          <a:stretch/>
        </p:blipFill>
        <p:spPr>
          <a:xfrm>
            <a:off x="3597120" y="2054160"/>
            <a:ext cx="2187720" cy="1127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Tendril4.png"/>
          <p:cNvPicPr/>
          <p:nvPr/>
        </p:nvPicPr>
        <p:blipFill>
          <a:blip r:embed="rId8"/>
          <a:stretch/>
        </p:blipFill>
        <p:spPr>
          <a:xfrm>
            <a:off x="2292480" y="2610000"/>
            <a:ext cx="101736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Tendril5.png"/>
          <p:cNvPicPr/>
          <p:nvPr/>
        </p:nvPicPr>
        <p:blipFill>
          <a:blip r:embed="rId9"/>
          <a:stretch/>
        </p:blipFill>
        <p:spPr>
          <a:xfrm>
            <a:off x="1170000" y="2425680"/>
            <a:ext cx="1255680" cy="54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Tendril6.png"/>
          <p:cNvPicPr/>
          <p:nvPr/>
        </p:nvPicPr>
        <p:blipFill>
          <a:blip r:embed="rId10"/>
          <a:stretch/>
        </p:blipFill>
        <p:spPr>
          <a:xfrm>
            <a:off x="3170160" y="2487600"/>
            <a:ext cx="438120" cy="41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Tendril8.png"/>
          <p:cNvPicPr/>
          <p:nvPr/>
        </p:nvPicPr>
        <p:blipFill>
          <a:blip r:embed="rId11"/>
          <a:stretch/>
        </p:blipFill>
        <p:spPr>
          <a:xfrm>
            <a:off x="4973760" y="1328760"/>
            <a:ext cx="67788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Tendril9.png"/>
          <p:cNvPicPr/>
          <p:nvPr/>
        </p:nvPicPr>
        <p:blipFill>
          <a:blip r:embed="rId12"/>
          <a:stretch/>
        </p:blipFill>
        <p:spPr>
          <a:xfrm>
            <a:off x="5638680" y="1384200"/>
            <a:ext cx="1609920" cy="83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Tendril10.png"/>
          <p:cNvPicPr/>
          <p:nvPr/>
        </p:nvPicPr>
        <p:blipFill>
          <a:blip r:embed="rId13"/>
          <a:stretch/>
        </p:blipFill>
        <p:spPr>
          <a:xfrm>
            <a:off x="6016680" y="469800"/>
            <a:ext cx="944640" cy="1176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1" descr="Tendril14.png"/>
          <p:cNvPicPr/>
          <p:nvPr/>
        </p:nvPicPr>
        <p:blipFill>
          <a:blip r:embed="rId14"/>
          <a:stretch/>
        </p:blipFill>
        <p:spPr>
          <a:xfrm>
            <a:off x="2895480" y="2023920"/>
            <a:ext cx="71280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Tendril2.png"/>
          <p:cNvPicPr/>
          <p:nvPr/>
        </p:nvPicPr>
        <p:blipFill>
          <a:blip r:embed="rId15"/>
          <a:stretch/>
        </p:blipFill>
        <p:spPr>
          <a:xfrm>
            <a:off x="5565600" y="1536840"/>
            <a:ext cx="3383280" cy="13525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403152"/>
              </a:gs>
              <a:gs pos="100000">
                <a:srgbClr val="10253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Large1.png"/>
          <p:cNvPicPr/>
          <p:nvPr/>
        </p:nvPicPr>
        <p:blipFill>
          <a:blip r:embed="rId16"/>
          <a:stretch/>
        </p:blipFill>
        <p:spPr>
          <a:xfrm>
            <a:off x="-237960" y="-42840"/>
            <a:ext cx="2334960" cy="699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3" descr="Large2.png"/>
          <p:cNvPicPr/>
          <p:nvPr/>
        </p:nvPicPr>
        <p:blipFill>
          <a:blip r:embed="rId17"/>
          <a:stretch/>
        </p:blipFill>
        <p:spPr>
          <a:xfrm>
            <a:off x="-92160" y="-23760"/>
            <a:ext cx="1890720" cy="693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4" descr="Tendril1.png"/>
          <p:cNvPicPr/>
          <p:nvPr/>
        </p:nvPicPr>
        <p:blipFill>
          <a:blip r:embed="rId18"/>
          <a:stretch/>
        </p:blipFill>
        <p:spPr>
          <a:xfrm>
            <a:off x="212760" y="3267000"/>
            <a:ext cx="1701720" cy="3408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Tendril2.png"/>
          <p:cNvPicPr/>
          <p:nvPr/>
        </p:nvPicPr>
        <p:blipFill>
          <a:blip r:embed="rId19"/>
          <a:stretch/>
        </p:blipFill>
        <p:spPr>
          <a:xfrm>
            <a:off x="317520" y="542880"/>
            <a:ext cx="1670040" cy="299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6" descr="Tendril3.png"/>
          <p:cNvPicPr/>
          <p:nvPr/>
        </p:nvPicPr>
        <p:blipFill>
          <a:blip r:embed="rId20"/>
          <a:stretch/>
        </p:blipFill>
        <p:spPr>
          <a:xfrm>
            <a:off x="-85680" y="2610000"/>
            <a:ext cx="1012680" cy="173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8" descr="Tendril5.png"/>
          <p:cNvPicPr/>
          <p:nvPr/>
        </p:nvPicPr>
        <p:blipFill>
          <a:blip r:embed="rId21"/>
          <a:stretch/>
        </p:blipFill>
        <p:spPr>
          <a:xfrm>
            <a:off x="378000" y="347760"/>
            <a:ext cx="682560" cy="119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9" descr="Tendril6.png"/>
          <p:cNvPicPr/>
          <p:nvPr/>
        </p:nvPicPr>
        <p:blipFill>
          <a:blip r:embed="rId22"/>
          <a:stretch/>
        </p:blipFill>
        <p:spPr>
          <a:xfrm>
            <a:off x="328680" y="2316240"/>
            <a:ext cx="336600" cy="36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0" descr="Tendril8.png"/>
          <p:cNvPicPr/>
          <p:nvPr/>
        </p:nvPicPr>
        <p:blipFill>
          <a:blip r:embed="rId23"/>
          <a:stretch/>
        </p:blipFill>
        <p:spPr>
          <a:xfrm>
            <a:off x="950760" y="3767040"/>
            <a:ext cx="341640" cy="549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1" descr="Tendril9.png"/>
          <p:cNvPicPr/>
          <p:nvPr/>
        </p:nvPicPr>
        <p:blipFill>
          <a:blip r:embed="rId24"/>
          <a:stretch/>
        </p:blipFill>
        <p:spPr>
          <a:xfrm>
            <a:off x="438120" y="4218120"/>
            <a:ext cx="750960" cy="1274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2" descr="Tendril10.png"/>
          <p:cNvPicPr/>
          <p:nvPr/>
        </p:nvPicPr>
        <p:blipFill>
          <a:blip r:embed="rId25"/>
          <a:stretch/>
        </p:blipFill>
        <p:spPr>
          <a:xfrm>
            <a:off x="871560" y="4548240"/>
            <a:ext cx="914400" cy="815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3" descr="Tendril14.png"/>
          <p:cNvPicPr/>
          <p:nvPr/>
        </p:nvPicPr>
        <p:blipFill>
          <a:blip r:embed="rId26"/>
          <a:stretch/>
        </p:blipFill>
        <p:spPr>
          <a:xfrm>
            <a:off x="731880" y="2023920"/>
            <a:ext cx="285840" cy="560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7"/>
    <p:sldLayoutId id="2147483663" r:id="rId28"/>
    <p:sldLayoutId id="2147483664" r:id="rId29"/>
    <p:sldLayoutId id="2147483665" r:id="rId30"/>
    <p:sldLayoutId id="2147483666" r:id="rId31"/>
    <p:sldLayoutId id="2147483667" r:id="rId32"/>
    <p:sldLayoutId id="2147483668" r:id="rId33"/>
    <p:sldLayoutId id="2147483669" r:id="rId34"/>
    <p:sldLayoutId id="2147483670" r:id="rId35"/>
    <p:sldLayoutId id="2147483671" r:id="rId36"/>
    <p:sldLayoutId id="2147483672" r:id="rId37"/>
    <p:sldLayoutId id="2147483673" r:id="rId3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952640" y="4308480"/>
            <a:ext cx="687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Qualitative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Grounded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Glaserian Hall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Researcher must suspend existing beliefs/preconceptions, remain open, and trust in the emergence of concepts from th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Glaserian Hall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Use </a:t>
            </a:r>
            <a:r>
              <a:rPr b="0" i="1" lang="en-US" sz="3200" spc="-1" strike="noStrike">
                <a:solidFill>
                  <a:srgbClr val="ff9900"/>
                </a:solidFill>
                <a:latin typeface="Calibri"/>
              </a:rPr>
              <a:t>constant comparison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method to provide abstract conceptualizations and avoid descriptive interpretations 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is the heart of GT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- helps facilitate the discovery of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patterns in th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tages/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6640" indent="-56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6640" indent="-566640">
              <a:spcBef>
                <a:spcPts val="799"/>
              </a:spcBef>
              <a:buClr>
                <a:srgbClr val="e46c0a"/>
              </a:buClr>
              <a:buSzPct val="7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opic selection and pre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6640" indent="-56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- minimize preconce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6640" indent="-56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- Do not do a literature review at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6640" indent="-56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is poi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6640" indent="-56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6640" indent="-566640">
              <a:spcBef>
                <a:spcPts val="799"/>
              </a:spcBef>
              <a:buClr>
                <a:srgbClr val="e46c0a"/>
              </a:buClr>
              <a:buSzPct val="75000"/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66640" indent="-566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- a variety of methods can be used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tages/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9900"/>
                </a:solidFill>
                <a:latin typeface="Calibri"/>
              </a:rPr>
              <a:t>constant comparative method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involves comparing one segment of data with another to determine similarities and dif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a. overall objective is to identify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patterns in th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tages/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buClr>
                <a:srgbClr val="e46c0a"/>
              </a:buClr>
              <a:buSzPct val="75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b. While you do comparisons you will be taking notes and 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9900"/>
                </a:solidFill>
                <a:latin typeface="Calibri"/>
              </a:rPr>
              <a:t>coding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: identifying categories and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- can be done formally or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inf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tages/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. Ask 3 general questions of the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da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1. What is the data a study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2. What category does this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incident indica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3. What is actually happening in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    the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tages/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4. Memo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9900"/>
                </a:solidFill>
                <a:latin typeface="Calibri"/>
              </a:rPr>
              <a:t>memos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: theorizing write-up of ideas about codes and their relationshi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- notes to your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* Data collection, analysis, and memoing are ongoing and over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tages/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378080" y="2266920"/>
            <a:ext cx="2179440" cy="438120"/>
          </a:xfrm>
          <a:prstGeom prst="rect">
            <a:avLst/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Arial"/>
              </a:rPr>
              <a:t>Data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378080" y="2705040"/>
            <a:ext cx="2179440" cy="438120"/>
          </a:xfrm>
          <a:prstGeom prst="rect">
            <a:avLst/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766880" y="3143160"/>
            <a:ext cx="2179800" cy="438120"/>
          </a:xfrm>
          <a:prstGeom prst="rect">
            <a:avLst/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089080" y="3581280"/>
            <a:ext cx="2179800" cy="438120"/>
          </a:xfrm>
          <a:prstGeom prst="rect">
            <a:avLst/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268880" y="4019400"/>
            <a:ext cx="2179440" cy="438480"/>
          </a:xfrm>
          <a:prstGeom prst="rect">
            <a:avLst/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6448320" y="4457880"/>
            <a:ext cx="2179800" cy="438120"/>
          </a:xfrm>
          <a:prstGeom prst="rect">
            <a:avLst/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tages/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                             </a:t>
            </a: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Notes                 C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632040" y="2016000"/>
            <a:ext cx="2154240" cy="3245040"/>
          </a:xfrm>
          <a:prstGeom prst="rect">
            <a:avLst/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786280" y="2016000"/>
            <a:ext cx="1152720" cy="3245040"/>
          </a:xfrm>
          <a:prstGeom prst="rect">
            <a:avLst/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308480" y="5486400"/>
            <a:ext cx="2003400" cy="1042920"/>
          </a:xfrm>
          <a:prstGeom prst="rect">
            <a:avLst/>
          </a:prstGeom>
          <a:solidFill>
            <a:srgbClr val="4f81bd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5a7d1"/>
                </a:solidFill>
                <a:latin typeface="Arial"/>
              </a:rPr>
              <a:t>M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tages/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5. Sorting and Theoretical Outlin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refers to conceptual sorting of memos into an outline of the emergent theory, showing relationships and 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6. Write up/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His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Introduced in 1967 by Glaser and Strauss in the book 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The Discovery of Grounded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- Challeng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1. divisions between theory and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2.  the notion that qualitative research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 was a precursor to more “rigorous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      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quantitative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e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Avoid reading literature regarding the specifics of your study at first, rather read broad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Access relevant literature 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as it becomes relev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an be used as data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Adequacy of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2f2f2"/>
                </a:solidFill>
                <a:uFillTx/>
                <a:latin typeface="Calibri"/>
              </a:rPr>
              <a:t>2 Criter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e theory must fit the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The theory must work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YouTube Vide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www.youtube.com/watch?v=7S1kJ0k3yH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www.youtube.com/watch?v=OcpxaLQDnL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www.youtube.com/watch?v=WwR9K17kul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ttp://www.youtube.com/watch?v=r6RpQelvS1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History 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- Challeng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3. beliefs that qualitative research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methods are impressionistic and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unsystem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4.  the separation of data collection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5. assumptions that qualitative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research could produce only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descriptive cast studies rather than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2f2f2"/>
                </a:solidFill>
                <a:latin typeface="Calibri"/>
              </a:rPr>
              <a:t>    theory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History 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Strauss believed that the quality of a theory can be evaluated by the process by which that theory was constructed, which is in contrast to the scientific perspective that states the quality of a theory is determined by its ability to explain new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Def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9900"/>
                </a:solidFill>
                <a:latin typeface="Calibri"/>
              </a:rPr>
              <a:t>Grounded Theory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: refers to theory that is developed inductively from a corpus of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Calibri"/>
              </a:rPr>
              <a:t>(Steve Borgatti: 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http://www.analytictech.com/mb870/introtoGT.htm</a:t>
            </a:r>
            <a:r>
              <a:rPr b="0" lang="en-US" sz="2200" spc="-1" strike="noStrike">
                <a:solidFill>
                  <a:srgbClr val="f2f2f2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Def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9900"/>
                </a:solidFill>
                <a:latin typeface="Calibri"/>
              </a:rPr>
              <a:t>Grounded Theory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: the systematic generation of theory from systematic research; a set of rigorous research procedures leading to the emergence of conceptual categ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1. Purpose is to develop to theory          about phenomenon of inte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- should be grounded or rooted in 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2. Allows researcher to seek out and conceptualize latent social patterns and structures through constant comparisons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3. Iterative (repetitive)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4. Rich description is important, but     not primary focus</a:t>
            </a:r>
            <a:r>
              <a:rPr b="0" i="1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5. Purposive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31760" y="274320"/>
            <a:ext cx="675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Grounded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31760" y="1095480"/>
            <a:ext cx="675468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6c0a"/>
              </a:buClr>
              <a:buSzPct val="7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Glaserian Hall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Calibri"/>
              </a:rPr>
              <a:t>Researchers must find the core variable (the main concern and its recurrent solutions) as the first stage of the study, and limit the scope of their study to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rbara Baker</dc:creator>
  <dc:description/>
  <dc:language>en-US</dc:language>
  <cp:lastModifiedBy>blb4469</cp:lastModifiedBy>
  <dcterms:modified xsi:type="dcterms:W3CDTF">2012-07-17T19:44:27Z</dcterms:modified>
  <cp:revision>3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729990</vt:lpwstr>
  </property>
</Properties>
</file>